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93F-5A36-4287-A67A-D3AA8C0E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F6E-413B-4D4C-B52E-0BF5ED67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C72-7471-49BE-8CF8-AF4F8906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C48-C713-4363-8630-B1A57766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5CA-01F3-4204-BBCE-ADC84917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5FA-B3C3-40E3-8D64-5EB5942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A1E-29FC-4FCE-A579-392321F2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513-C271-44FF-8D57-E6B0F172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6B4-E907-462C-9818-2426EF5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C1D-9C50-4A96-8F33-15DF169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A1D-C5DA-4428-AC2B-167BB5D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E73-2866-4CCB-936A-2D9C4D3E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84C3-2E1F-4ED3-A868-C9AF94342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opedia.com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Your Library’s Presence On the Web (for Fr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Matt Fi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York City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Libr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 Con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3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861048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60" y="1905120"/>
            <a:ext cx="9067680" cy="433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ed Library Nar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Your Web 2.0 S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Share-out of Web 2.0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5846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kgny@g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 Conference 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: How do we know what “Web 2.0” me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Now: Answer today’s Question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ra credit: list three examples of Web 2.0 applic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efinition of Web 2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2.0 refers to the transition from static HTML Web pages to a more dynamic Web... The improved functionality of Web 2.0 includes open communication with an emphasis on Web-based communities of users, and more open sharing of information. Blogs, wikis, and Web services are all seen as components of Web 2.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ebopedia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ccessed 10/30/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some mor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ki = Hawaiian for a project built quickly through community eff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g = Web l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Networking = sharing information with friends and acquaintances online (Facebook, Delicious, LibraryThing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itter = annoying (just kidd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and Contras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1.0 vs. Web 2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1.0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page that gives static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ological e-m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 that allows you to send a Word or Excel attac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2.0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 that groups conversations threads (like gma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 docs or Zohowr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2.0 to the Rescue: Library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0080" y="1841400"/>
            <a:ext cx="8883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ciou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kmarks Wherever You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2101680"/>
            <a:ext cx="853416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680" y="266760"/>
            <a:ext cx="8701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3:13:16Z</dcterms:created>
  <dc:creator>SINN S</dc:creator>
  <dc:description/>
  <dc:language>en-US</dc:language>
  <cp:lastModifiedBy>SINN S</cp:lastModifiedBy>
  <dcterms:modified xsi:type="dcterms:W3CDTF">2009-11-03T01:45:55Z</dcterms:modified>
  <cp:revision>11</cp:revision>
  <dc:subject/>
  <dc:title>PowerPoint Presentation</dc:title>
</cp:coreProperties>
</file>